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DA2-823D-4429-B4E3-A430802C68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rzyknik (z ludzikiem) jest za daleko, powinien być prawie sklejony z ostatnią l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63E-668E-482D-9D12-09BB325045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C10-B8FB-457D-86E5-357512A5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F4F-0D17-4658-97E5-5DE841B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7EB-AB02-4533-9B35-82C4843F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964-8E73-4D37-94F5-D60B710D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19E-4578-479F-B5DE-D75D473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357-BC06-428B-9B77-1CB66F0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F6F-265A-4B8A-938B-3A10654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03B-B415-486B-8984-EB533474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94F-1B84-42CD-8B4A-75D17FAD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274-72DE-430B-8ECE-BBC300E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95D-24E3-4195-A916-F3C3CF1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691-E314-4EDF-912D-2788DD5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83E-0538-458D-B96A-254BBA314B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hyperlink" Target="http://www.pkd-24.pl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7829-3E3F-44A1-AB87-D70A4E6483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2" descr=""/>
          <p:cNvPicPr/>
          <p:nvPr/>
        </p:nvPicPr>
        <p:blipFill>
          <a:blip r:embed="rId3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ożenie wniosk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18"/>
          <p:cNvGrpSpPr/>
          <p:nvPr/>
        </p:nvGrpSpPr>
        <p:grpSpPr>
          <a:xfrm>
            <a:off x="844560" y="1125360"/>
            <a:ext cx="3683160" cy="1811520"/>
            <a:chOff x="844560" y="1125360"/>
            <a:chExt cx="3683160" cy="1811520"/>
          </a:xfrm>
        </p:grpSpPr>
        <p:sp>
          <p:nvSpPr>
            <p:cNvPr id="144" name="Dowolny kształt 10"/>
            <p:cNvSpPr/>
            <p:nvPr/>
          </p:nvSpPr>
          <p:spPr>
            <a:xfrm>
              <a:off x="3864240" y="1985760"/>
              <a:ext cx="663480" cy="9036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be4b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Dowolny kształt 11"/>
            <p:cNvSpPr/>
            <p:nvPr/>
          </p:nvSpPr>
          <p:spPr>
            <a:xfrm>
              <a:off x="844560" y="1125360"/>
              <a:ext cx="3021120" cy="18115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gminy sprawdza treść wniosku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potwierdza wnioskodawcy, za pokwitowaniem, przyjęcie wniosk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19"/>
          <p:cNvGrpSpPr/>
          <p:nvPr/>
        </p:nvGrpSpPr>
        <p:grpSpPr>
          <a:xfrm>
            <a:off x="2354400" y="1125360"/>
            <a:ext cx="5225760" cy="2475000"/>
            <a:chOff x="2354400" y="1125360"/>
            <a:chExt cx="5225760" cy="2475000"/>
          </a:xfrm>
        </p:grpSpPr>
        <p:sp>
          <p:nvSpPr>
            <p:cNvPr id="147" name="Dowolny kształt 12"/>
            <p:cNvSpPr/>
            <p:nvPr/>
          </p:nvSpPr>
          <p:spPr>
            <a:xfrm>
              <a:off x="2354400" y="2936880"/>
              <a:ext cx="3716280" cy="663480"/>
            </a:xfrm>
            <a:custGeom>
              <a:avLst/>
              <a:gdLst/>
              <a:ahLst/>
              <a:rect l="l" t="t" r="r" b="b"/>
              <a:pathLst>
                <a:path w="3715089" h="664091">
                  <a:moveTo>
                    <a:pt x="3715089" y="0"/>
                  </a:moveTo>
                  <a:lnTo>
                    <a:pt x="3715089" y="349145"/>
                  </a:lnTo>
                  <a:lnTo>
                    <a:pt x="0" y="349145"/>
                  </a:lnTo>
                  <a:lnTo>
                    <a:pt x="0" y="664091"/>
                  </a:lnTo>
                </a:path>
              </a:pathLst>
            </a:custGeom>
            <a:noFill/>
            <a:ln w="9360">
              <a:solidFill>
                <a:srgbClr val="bc98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75520" rIns="1775520" tIns="328320" bIns="328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Dowolny kształt 13"/>
            <p:cNvSpPr/>
            <p:nvPr/>
          </p:nvSpPr>
          <p:spPr>
            <a:xfrm>
              <a:off x="4559400" y="1125360"/>
              <a:ext cx="3020760" cy="1812960"/>
            </a:xfrm>
            <a:prstGeom prst="pie">
              <a:avLst/>
            </a:prstGeom>
            <a:solidFill>
              <a:srgbClr val="be835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stępnie w ciągu trzech dni przesyła wniosek do Zakładu Ubezpieczeń Społecznych, urzędu statystycznego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urzędu skarboweg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20"/>
          <p:cNvGrpSpPr/>
          <p:nvPr/>
        </p:nvGrpSpPr>
        <p:grpSpPr>
          <a:xfrm>
            <a:off x="844560" y="3632040"/>
            <a:ext cx="3683160" cy="1812960"/>
            <a:chOff x="844560" y="3632040"/>
            <a:chExt cx="3683160" cy="1812960"/>
          </a:xfrm>
        </p:grpSpPr>
        <p:sp>
          <p:nvSpPr>
            <p:cNvPr id="150" name="Dowolny kształt 14"/>
            <p:cNvSpPr/>
            <p:nvPr/>
          </p:nvSpPr>
          <p:spPr>
            <a:xfrm>
              <a:off x="3864240" y="4492440"/>
              <a:ext cx="663480" cy="9180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98b9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Dowolny kształt 16"/>
            <p:cNvSpPr/>
            <p:nvPr/>
          </p:nvSpPr>
          <p:spPr>
            <a:xfrm>
              <a:off x="844560" y="3632040"/>
              <a:ext cx="3021120" cy="1812960"/>
            </a:xfrm>
            <a:prstGeom prst="pie">
              <a:avLst/>
            </a:prstGeom>
            <a:solidFill>
              <a:srgbClr val="bdb2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jego podstawie przedsiębiorca dostanie stosowne numery, będzie też zgłoszony jako płatnik składek w myśl przepisów o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Dowolny kształt 17"/>
          <p:cNvSpPr/>
          <p:nvPr/>
        </p:nvSpPr>
        <p:spPr>
          <a:xfrm>
            <a:off x="4559400" y="3632040"/>
            <a:ext cx="3020760" cy="181296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umerem identyfikacyjnym przedsiębiorcy w CEIDG jest numer identyfikacji podatkowej (NI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21"/>
          <p:cNvGrpSpPr/>
          <p:nvPr/>
        </p:nvGrpSpPr>
        <p:grpSpPr>
          <a:xfrm>
            <a:off x="971640" y="5732640"/>
            <a:ext cx="6985080" cy="936360"/>
            <a:chOff x="971640" y="5732640"/>
            <a:chExt cx="6985080" cy="936360"/>
          </a:xfrm>
        </p:grpSpPr>
        <p:sp>
          <p:nvSpPr>
            <p:cNvPr id="154" name="Prostokąt zaokrąglony 8"/>
            <p:cNvSpPr/>
            <p:nvPr/>
          </p:nvSpPr>
          <p:spPr>
            <a:xfrm>
              <a:off x="971640" y="5732640"/>
              <a:ext cx="698508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7"/>
            <p:cNvSpPr/>
            <p:nvPr/>
          </p:nvSpPr>
          <p:spPr>
            <a:xfrm>
              <a:off x="1043640" y="5732640"/>
              <a:ext cx="684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łożenie wniosku o wpis do ewidencji działalności gospodarczej nie podlega opłacie. Przedsiębiorca może rozpocząć swoją działalność już w dniu złożenia wniosk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lsze procedury zakładani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484280"/>
            <a:ext cx="80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głoszenie wniosku CEIDG-1 nie jest jedyną formalnością, jakiej musi dopilnować przyszły przedsiębiorca. Mimo uproszczenia procedur konieczne jest jeszcze załatwienie kilku spra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8"/>
          <p:cNvGrpSpPr/>
          <p:nvPr/>
        </p:nvGrpSpPr>
        <p:grpSpPr>
          <a:xfrm>
            <a:off x="468360" y="2421000"/>
            <a:ext cx="7632720" cy="1170000"/>
            <a:chOff x="468360" y="2421000"/>
            <a:chExt cx="7632720" cy="1170000"/>
          </a:xfrm>
        </p:grpSpPr>
        <p:sp>
          <p:nvSpPr>
            <p:cNvPr id="164" name="Dowolny kształt 11"/>
            <p:cNvSpPr/>
            <p:nvPr/>
          </p:nvSpPr>
          <p:spPr>
            <a:xfrm>
              <a:off x="468360" y="242100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łożenie firmowego konta w bank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rostokąt zaokrąglony 12"/>
            <p:cNvSpPr/>
            <p:nvPr/>
          </p:nvSpPr>
          <p:spPr>
            <a:xfrm>
              <a:off x="585720" y="253836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9"/>
          <p:cNvGrpSpPr/>
          <p:nvPr/>
        </p:nvGrpSpPr>
        <p:grpSpPr>
          <a:xfrm>
            <a:off x="468360" y="3708360"/>
            <a:ext cx="7632720" cy="1170000"/>
            <a:chOff x="468360" y="3708360"/>
            <a:chExt cx="7632720" cy="1170000"/>
          </a:xfrm>
        </p:grpSpPr>
        <p:sp>
          <p:nvSpPr>
            <p:cNvPr id="167" name="Dowolny kształt 13"/>
            <p:cNvSpPr/>
            <p:nvPr/>
          </p:nvSpPr>
          <p:spPr>
            <a:xfrm>
              <a:off x="468360" y="370836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żeli przedsiębiorca zdecyduje się, że chce być vatowcem, to musi zgłosić ten fakt w stosownym urzędzie skarbowym (złożyć zgłoszenie rejestracyjne na formularzu VAT-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rostokąt zaokrąglony 14"/>
            <p:cNvSpPr/>
            <p:nvPr/>
          </p:nvSpPr>
          <p:spPr>
            <a:xfrm>
              <a:off x="585720" y="382572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a 20"/>
          <p:cNvGrpSpPr/>
          <p:nvPr/>
        </p:nvGrpSpPr>
        <p:grpSpPr>
          <a:xfrm>
            <a:off x="468360" y="4995720"/>
            <a:ext cx="7632720" cy="1170000"/>
            <a:chOff x="468360" y="4995720"/>
            <a:chExt cx="7632720" cy="1170000"/>
          </a:xfrm>
        </p:grpSpPr>
        <p:sp>
          <p:nvSpPr>
            <p:cNvPr id="170" name="Dowolny kształt 16"/>
            <p:cNvSpPr/>
            <p:nvPr/>
          </p:nvSpPr>
          <p:spPr>
            <a:xfrm>
              <a:off x="468360" y="499572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08200" rIns="64800" tIns="64800" bIns="648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głoszenie siebie i swoich pracowników do ubezpieczenia społecznego i zdrowotnego (formularz ZUS ZUA), </a:t>
              </a:r>
              <a:br>
                <a:rPr sz="1700"/>
              </a:b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 w przypadku gdy właściciel oprócz prowadzenia działalności pracuje na pełnym etacie – zgłoszenie tylko do ubezpieczenia zdrowotnego (ZUS ZZ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rostokąt zaokrąglony 17"/>
            <p:cNvSpPr/>
            <p:nvPr/>
          </p:nvSpPr>
          <p:spPr>
            <a:xfrm>
              <a:off x="585720" y="511308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ole tekstowe 1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ruk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ole tekstowe 6"/>
          <p:cNvSpPr/>
          <p:nvPr/>
        </p:nvSpPr>
        <p:spPr>
          <a:xfrm>
            <a:off x="395280" y="112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ym formularzem w przypadku rejestracji jednoosobowej działalności gospodarczej jest druk CEIDG-1, w którym należy podać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Kształt 9"/>
          <p:cNvSpPr/>
          <p:nvPr/>
        </p:nvSpPr>
        <p:spPr>
          <a:xfrm>
            <a:off x="615960" y="1916280"/>
            <a:ext cx="7283520" cy="4552920"/>
          </a:xfrm>
          <a:custGeom>
            <a:avLst/>
            <a:gdLst/>
            <a:ahLst/>
            <a:rect l="l" t="t" r="r" b="b"/>
            <a:pathLst>
              <a:path w="7283450" h="4552950">
                <a:moveTo>
                  <a:pt x="0" y="4552950"/>
                </a:moveTo>
                <a:lnTo>
                  <a:pt x="1213909" y="1517650"/>
                </a:lnTo>
                <a:lnTo>
                  <a:pt x="6145213" y="569119"/>
                </a:lnTo>
                <a:lnTo>
                  <a:pt x="6081088" y="0"/>
                </a:lnTo>
                <a:lnTo>
                  <a:pt x="7283450" y="910590"/>
                </a:lnTo>
                <a:lnTo>
                  <a:pt x="6337585" y="2276475"/>
                </a:lnTo>
                <a:lnTo>
                  <a:pt x="6273461" y="1707356"/>
                </a:lnTo>
                <a:close/>
              </a:path>
            </a:pathLst>
          </a:custGeom>
          <a:solidFill>
            <a:srgbClr val="e8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a 21"/>
          <p:cNvGrpSpPr/>
          <p:nvPr/>
        </p:nvGrpSpPr>
        <p:grpSpPr>
          <a:xfrm>
            <a:off x="1289160" y="5302080"/>
            <a:ext cx="1211040" cy="1167120"/>
            <a:chOff x="1289160" y="5302080"/>
            <a:chExt cx="1211040" cy="1167120"/>
          </a:xfrm>
        </p:grpSpPr>
        <p:sp>
          <p:nvSpPr>
            <p:cNvPr id="181" name="Elipsa 10"/>
            <p:cNvSpPr/>
            <p:nvPr/>
          </p:nvSpPr>
          <p:spPr>
            <a:xfrm>
              <a:off x="1333440" y="5302080"/>
              <a:ext cx="168120" cy="1666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owolny kształt 11"/>
            <p:cNvSpPr/>
            <p:nvPr/>
          </p:nvSpPr>
          <p:spPr>
            <a:xfrm>
              <a:off x="1289160" y="5385960"/>
              <a:ext cx="1211040" cy="108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2"/>
          <p:cNvGrpSpPr/>
          <p:nvPr/>
        </p:nvGrpSpPr>
        <p:grpSpPr>
          <a:xfrm>
            <a:off x="2208240" y="4430880"/>
            <a:ext cx="1535040" cy="2038320"/>
            <a:chOff x="2208240" y="4430880"/>
            <a:chExt cx="1535040" cy="2038320"/>
          </a:xfrm>
        </p:grpSpPr>
        <p:sp>
          <p:nvSpPr>
            <p:cNvPr id="184" name="Elipsa 12"/>
            <p:cNvSpPr/>
            <p:nvPr/>
          </p:nvSpPr>
          <p:spPr>
            <a:xfrm>
              <a:off x="2239920" y="4430880"/>
              <a:ext cx="261720" cy="2617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Dowolny kształt 13"/>
            <p:cNvSpPr/>
            <p:nvPr/>
          </p:nvSpPr>
          <p:spPr>
            <a:xfrm>
              <a:off x="2208240" y="4562640"/>
              <a:ext cx="1535040" cy="190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96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tę uro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23"/>
          <p:cNvGrpSpPr/>
          <p:nvPr/>
        </p:nvGrpSpPr>
        <p:grpSpPr>
          <a:xfrm>
            <a:off x="3390840" y="3735360"/>
            <a:ext cx="1784520" cy="2733840"/>
            <a:chOff x="3390840" y="3735360"/>
            <a:chExt cx="1784520" cy="2733840"/>
          </a:xfrm>
        </p:grpSpPr>
        <p:sp>
          <p:nvSpPr>
            <p:cNvPr id="187" name="Elipsa 14"/>
            <p:cNvSpPr/>
            <p:nvPr/>
          </p:nvSpPr>
          <p:spPr>
            <a:xfrm>
              <a:off x="3404880" y="3735360"/>
              <a:ext cx="349200" cy="349200"/>
            </a:xfrm>
            <a:prstGeom prst="ellips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Dowolny kształt 16"/>
            <p:cNvSpPr/>
            <p:nvPr/>
          </p:nvSpPr>
          <p:spPr>
            <a:xfrm>
              <a:off x="3390840" y="3909960"/>
              <a:ext cx="1784520" cy="2559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E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formacje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obywatelstw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24"/>
          <p:cNvGrpSpPr/>
          <p:nvPr/>
        </p:nvGrpSpPr>
        <p:grpSpPr>
          <a:xfrm>
            <a:off x="4761000" y="2997360"/>
            <a:ext cx="1701720" cy="3049560"/>
            <a:chOff x="4761000" y="2997360"/>
            <a:chExt cx="1701720" cy="3049560"/>
          </a:xfrm>
        </p:grpSpPr>
        <p:sp>
          <p:nvSpPr>
            <p:cNvPr id="190" name="Elipsa 17"/>
            <p:cNvSpPr/>
            <p:nvPr/>
          </p:nvSpPr>
          <p:spPr>
            <a:xfrm>
              <a:off x="4761000" y="3193920"/>
              <a:ext cx="450720" cy="45072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owolny kształt 18"/>
            <p:cNvSpPr/>
            <p:nvPr/>
          </p:nvSpPr>
          <p:spPr>
            <a:xfrm>
              <a:off x="4860720" y="2997360"/>
              <a:ext cx="1602000" cy="304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9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ne dotyczące fi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25"/>
          <p:cNvGrpSpPr/>
          <p:nvPr/>
        </p:nvGrpSpPr>
        <p:grpSpPr>
          <a:xfrm>
            <a:off x="6154560" y="2830680"/>
            <a:ext cx="1941840" cy="3638520"/>
            <a:chOff x="6154560" y="2830680"/>
            <a:chExt cx="1941840" cy="3638520"/>
          </a:xfrm>
        </p:grpSpPr>
        <p:sp>
          <p:nvSpPr>
            <p:cNvPr id="193" name="Elipsa 19"/>
            <p:cNvSpPr/>
            <p:nvPr/>
          </p:nvSpPr>
          <p:spPr>
            <a:xfrm>
              <a:off x="6154560" y="2830680"/>
              <a:ext cx="576360" cy="5745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Dowolny kształt 20"/>
            <p:cNvSpPr/>
            <p:nvPr/>
          </p:nvSpPr>
          <p:spPr>
            <a:xfrm>
              <a:off x="6246360" y="3117960"/>
              <a:ext cx="1850040" cy="335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zamieszkania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adres do koresponden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2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łączniki do druku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6"/>
          <p:cNvSpPr/>
          <p:nvPr/>
        </p:nvSpPr>
        <p:spPr>
          <a:xfrm>
            <a:off x="324000" y="1125360"/>
            <a:ext cx="633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CEIDG-1 ma również załącznik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upa 18"/>
          <p:cNvGrpSpPr/>
          <p:nvPr/>
        </p:nvGrpSpPr>
        <p:grpSpPr>
          <a:xfrm>
            <a:off x="395280" y="1832040"/>
            <a:ext cx="7848720" cy="838080"/>
            <a:chOff x="395280" y="1832040"/>
            <a:chExt cx="7848720" cy="838080"/>
          </a:xfrm>
        </p:grpSpPr>
        <p:sp>
          <p:nvSpPr>
            <p:cNvPr id="203" name="Prostokąt 9"/>
            <p:cNvSpPr/>
            <p:nvPr/>
          </p:nvSpPr>
          <p:spPr>
            <a:xfrm>
              <a:off x="395280" y="214164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0"/>
            <p:cNvSpPr/>
            <p:nvPr/>
          </p:nvSpPr>
          <p:spPr>
            <a:xfrm>
              <a:off x="776160" y="1832040"/>
              <a:ext cx="7464600" cy="619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D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wpisywania dodatkowych rodzajów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19"/>
          <p:cNvGrpSpPr/>
          <p:nvPr/>
        </p:nvGrpSpPr>
        <p:grpSpPr>
          <a:xfrm>
            <a:off x="395280" y="2784600"/>
            <a:ext cx="7848720" cy="1141200"/>
            <a:chOff x="395280" y="2784600"/>
            <a:chExt cx="7848720" cy="1141200"/>
          </a:xfrm>
        </p:grpSpPr>
        <p:sp>
          <p:nvSpPr>
            <p:cNvPr id="206" name="Prostokąt 11"/>
            <p:cNvSpPr/>
            <p:nvPr/>
          </p:nvSpPr>
          <p:spPr>
            <a:xfrm>
              <a:off x="395280" y="339732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12"/>
            <p:cNvSpPr/>
            <p:nvPr/>
          </p:nvSpPr>
          <p:spPr>
            <a:xfrm>
              <a:off x="768240" y="2784600"/>
              <a:ext cx="7474320" cy="922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2720" rIns="252720" tIns="45000" bIns="4500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MW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łuży do wpisywania dodatkowych miejsc wykonywania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20"/>
          <p:cNvGrpSpPr/>
          <p:nvPr/>
        </p:nvGrpSpPr>
        <p:grpSpPr>
          <a:xfrm>
            <a:off x="395280" y="4038480"/>
            <a:ext cx="7848720" cy="1041480"/>
            <a:chOff x="395280" y="4038480"/>
            <a:chExt cx="7848720" cy="1041480"/>
          </a:xfrm>
        </p:grpSpPr>
        <p:sp>
          <p:nvSpPr>
            <p:cNvPr id="209" name="Prostokąt 13"/>
            <p:cNvSpPr/>
            <p:nvPr/>
          </p:nvSpPr>
          <p:spPr>
            <a:xfrm>
              <a:off x="395280" y="4551120"/>
              <a:ext cx="7848720" cy="52884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Dowolny kształt 14"/>
            <p:cNvSpPr/>
            <p:nvPr/>
          </p:nvSpPr>
          <p:spPr>
            <a:xfrm>
              <a:off x="768240" y="4038480"/>
              <a:ext cx="7474320" cy="897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1280" rIns="251280" tIns="43920" bIns="4392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B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podawania informacji o rachunkach bankow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21"/>
          <p:cNvGrpSpPr/>
          <p:nvPr/>
        </p:nvGrpSpPr>
        <p:grpSpPr>
          <a:xfrm>
            <a:off x="395280" y="5267160"/>
            <a:ext cx="7848720" cy="839880"/>
            <a:chOff x="395280" y="5267160"/>
            <a:chExt cx="7848720" cy="839880"/>
          </a:xfrm>
        </p:grpSpPr>
        <p:sp>
          <p:nvSpPr>
            <p:cNvPr id="212" name="Prostokąt 16"/>
            <p:cNvSpPr/>
            <p:nvPr/>
          </p:nvSpPr>
          <p:spPr>
            <a:xfrm>
              <a:off x="395280" y="5576760"/>
              <a:ext cx="7848720" cy="5302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Dowolny kształt 17"/>
            <p:cNvSpPr/>
            <p:nvPr/>
          </p:nvSpPr>
          <p:spPr>
            <a:xfrm>
              <a:off x="768240" y="5267160"/>
              <a:ext cx="7474320" cy="621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S.C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– służy do określania udziału w spółkach cywiln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ludzie171.jpg"/>
          <p:cNvPicPr/>
          <p:nvPr/>
        </p:nvPicPr>
        <p:blipFill>
          <a:blip r:embed="rId1"/>
          <a:stretch/>
        </p:blipFill>
        <p:spPr>
          <a:xfrm>
            <a:off x="324000" y="1052640"/>
            <a:ext cx="3419280" cy="2168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rodzaju prowadzonej działal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ole tekstowe 7"/>
          <p:cNvSpPr/>
          <p:nvPr/>
        </p:nvSpPr>
        <p:spPr>
          <a:xfrm>
            <a:off x="971640" y="6021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y do swojej działalności można znaleźć na stronie GUS-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bo stronie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 CE"/>
                <a:ea typeface="Times New Roman CE"/>
                <a:hlinkClick r:id="rId3"/>
              </a:rPr>
              <a:t>www.pkd-24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6"/>
          <p:cNvSpPr/>
          <p:nvPr/>
        </p:nvSpPr>
        <p:spPr>
          <a:xfrm>
            <a:off x="3995640" y="112536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 wniosku CEIDG-1 trzeba również określić rodzaj prowadzonej działalności i podać jej kod zgodny z Polską Klasyfikacją Działalności (PK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ole tekstowe 11"/>
          <p:cNvSpPr/>
          <p:nvPr/>
        </p:nvSpPr>
        <p:spPr>
          <a:xfrm>
            <a:off x="0" y="3284640"/>
            <a:ext cx="84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druku  CEIDG-1 należy wpisać podstawowy rodzaj działalności i jej kod, ale można tam podać również inne działalności, które przedsiębiorca w przyszłości planuje wykonywać. W zgłoszeniu dobrze jest bowiem określić przedmiot działalności maksymalnie szeroko, tzn. wymienić wszystkie rodzaje działalności, które przedsiębiorca chciałby lub może wykonywać. Pozwoli to uniknąć późniejszego zmieniania wpisu do ewidencji w przypadku zmiany przedmiotu działalności lub jej rozszer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y, który chce założyć spółkę prawa handlowego</a:t>
            </a:r>
            <a:r>
              <a:rPr b="0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Dowolny kształt 20"/>
          <p:cNvSpPr/>
          <p:nvPr/>
        </p:nvSpPr>
        <p:spPr>
          <a:xfrm>
            <a:off x="6516720" y="1773360"/>
            <a:ext cx="1795320" cy="4176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astęp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robić pieczą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rać odpowiednią formę opodatkowania w US - druk VAT–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ałożyć konto fir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upa 21"/>
          <p:cNvGrpSpPr/>
          <p:nvPr/>
        </p:nvGrpSpPr>
        <p:grpSpPr>
          <a:xfrm>
            <a:off x="250920" y="1628640"/>
            <a:ext cx="2044440" cy="4343400"/>
            <a:chOff x="250920" y="1628640"/>
            <a:chExt cx="2044440" cy="4343400"/>
          </a:xfrm>
        </p:grpSpPr>
        <p:sp>
          <p:nvSpPr>
            <p:cNvPr id="232" name="Dowolny kształt 10"/>
            <p:cNvSpPr/>
            <p:nvPr/>
          </p:nvSpPr>
          <p:spPr>
            <a:xfrm>
              <a:off x="250920" y="1628640"/>
              <a:ext cx="1806480" cy="43434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7360" rIns="117360" tIns="117360" bIns="1173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oczątk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rządzić umowę spółki - w razie potrzeby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formie aktu notarialn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Dowolny kształt 11"/>
            <p:cNvSpPr/>
            <p:nvPr/>
          </p:nvSpPr>
          <p:spPr>
            <a:xfrm>
              <a:off x="1987560" y="3182760"/>
              <a:ext cx="307800" cy="230040"/>
            </a:xfrm>
            <a:custGeom>
              <a:avLst/>
              <a:gdLst/>
              <a:ahLst/>
              <a:rect l="l" t="t" r="r" b="b"/>
              <a:pathLst>
                <a:path w="308565" h="231093">
                  <a:moveTo>
                    <a:pt x="0" y="46219"/>
                  </a:moveTo>
                  <a:lnTo>
                    <a:pt x="193019" y="46219"/>
                  </a:lnTo>
                  <a:lnTo>
                    <a:pt x="193019" y="0"/>
                  </a:lnTo>
                  <a:lnTo>
                    <a:pt x="308565" y="115547"/>
                  </a:lnTo>
                  <a:lnTo>
                    <a:pt x="193019" y="231093"/>
                  </a:lnTo>
                  <a:lnTo>
                    <a:pt x="193019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3"/>
          <p:cNvGrpSpPr/>
          <p:nvPr/>
        </p:nvGrpSpPr>
        <p:grpSpPr>
          <a:xfrm>
            <a:off x="4500720" y="1628640"/>
            <a:ext cx="2046240" cy="4305600"/>
            <a:chOff x="4500720" y="1628640"/>
            <a:chExt cx="2046240" cy="4305600"/>
          </a:xfrm>
        </p:grpSpPr>
        <p:sp>
          <p:nvSpPr>
            <p:cNvPr id="235" name="Dowolny kształt 17"/>
            <p:cNvSpPr/>
            <p:nvPr/>
          </p:nvSpPr>
          <p:spPr>
            <a:xfrm>
              <a:off x="4500720" y="1628640"/>
              <a:ext cx="1673280" cy="430560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109800" bIns="10980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acja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urzędach na wniosek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karbow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tatystycz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8"/>
            <p:cNvSpPr/>
            <p:nvPr/>
          </p:nvSpPr>
          <p:spPr>
            <a:xfrm>
              <a:off x="6104160" y="3163680"/>
              <a:ext cx="442800" cy="230040"/>
            </a:xfrm>
            <a:custGeom>
              <a:avLst/>
              <a:gdLst/>
              <a:ahLst/>
              <a:rect l="l" t="t" r="r" b="b"/>
              <a:pathLst>
                <a:path w="442863" h="231093">
                  <a:moveTo>
                    <a:pt x="0" y="46219"/>
                  </a:moveTo>
                  <a:lnTo>
                    <a:pt x="327317" y="46219"/>
                  </a:lnTo>
                  <a:lnTo>
                    <a:pt x="327317" y="0"/>
                  </a:lnTo>
                  <a:lnTo>
                    <a:pt x="442863" y="115547"/>
                  </a:lnTo>
                  <a:lnTo>
                    <a:pt x="327317" y="231093"/>
                  </a:lnTo>
                  <a:lnTo>
                    <a:pt x="327317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22"/>
          <p:cNvGrpSpPr/>
          <p:nvPr/>
        </p:nvGrpSpPr>
        <p:grpSpPr>
          <a:xfrm>
            <a:off x="2340000" y="1700280"/>
            <a:ext cx="2144520" cy="4176720"/>
            <a:chOff x="2340000" y="1700280"/>
            <a:chExt cx="2144520" cy="4176720"/>
          </a:xfrm>
        </p:grpSpPr>
        <p:sp>
          <p:nvSpPr>
            <p:cNvPr id="238" name="Dowolny kształt 13"/>
            <p:cNvSpPr/>
            <p:nvPr/>
          </p:nvSpPr>
          <p:spPr>
            <a:xfrm>
              <a:off x="2340000" y="1700280"/>
              <a:ext cx="1878120" cy="417672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05840" tIns="105840" bIns="10584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głosić spółkę do rejestru przedsiębiorców stanowiącego część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łożyć wnio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Dołączyć umowę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dowód uiszczenia należnej opłaty sąd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4129200" y="3168720"/>
              <a:ext cx="355320" cy="230040"/>
            </a:xfrm>
            <a:custGeom>
              <a:avLst/>
              <a:gdLst/>
              <a:ahLst/>
              <a:rect l="l" t="t" r="r" b="b"/>
              <a:pathLst>
                <a:path w="355379" h="231093">
                  <a:moveTo>
                    <a:pt x="0" y="46219"/>
                  </a:moveTo>
                  <a:lnTo>
                    <a:pt x="239833" y="46219"/>
                  </a:lnTo>
                  <a:lnTo>
                    <a:pt x="239833" y="0"/>
                  </a:lnTo>
                  <a:lnTo>
                    <a:pt x="355379" y="115547"/>
                  </a:lnTo>
                  <a:lnTo>
                    <a:pt x="239833" y="231093"/>
                  </a:lnTo>
                  <a:lnTo>
                    <a:pt x="239833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755640" y="1844640"/>
            <a:ext cx="7056360" cy="1440000"/>
            <a:chOff x="755640" y="1844640"/>
            <a:chExt cx="7056360" cy="1440000"/>
          </a:xfrm>
        </p:grpSpPr>
        <p:sp>
          <p:nvSpPr>
            <p:cNvPr id="248" name="Prostokąt zaokrąglony 10"/>
            <p:cNvSpPr/>
            <p:nvPr/>
          </p:nvSpPr>
          <p:spPr>
            <a:xfrm>
              <a:off x="755640" y="1844640"/>
              <a:ext cx="7056360" cy="144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ole tekstowe 9"/>
            <p:cNvSpPr/>
            <p:nvPr/>
          </p:nvSpPr>
          <p:spPr>
            <a:xfrm>
              <a:off x="899640" y="1988640"/>
              <a:ext cx="676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 banku należy dostarczyć akt zawiązania spółki, odpis KRS, pieczątkę, numer REGON, NIP i kartę wzorów podpis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upa 14"/>
          <p:cNvGrpSpPr/>
          <p:nvPr/>
        </p:nvGrpSpPr>
        <p:grpSpPr>
          <a:xfrm>
            <a:off x="900000" y="3860640"/>
            <a:ext cx="6985080" cy="2089440"/>
            <a:chOff x="900000" y="3860640"/>
            <a:chExt cx="6985080" cy="2089440"/>
          </a:xfrm>
        </p:grpSpPr>
        <p:sp>
          <p:nvSpPr>
            <p:cNvPr id="251" name="Prostokąt zaokrąglony 12"/>
            <p:cNvSpPr/>
            <p:nvPr/>
          </p:nvSpPr>
          <p:spPr>
            <a:xfrm>
              <a:off x="900000" y="3860640"/>
              <a:ext cx="6985080" cy="2089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ole tekstowe 11"/>
            <p:cNvSpPr/>
            <p:nvPr/>
          </p:nvSpPr>
          <p:spPr>
            <a:xfrm>
              <a:off x="1332000" y="4076640"/>
              <a:ext cx="615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 ciągu 7 dni od rozpoczęcia działalności przedsiębiorca ma obowiązek zgłoszenia wspólników spółki i zatrudnionych pracowników do ubezpieczenia społecznego i zdrowotnego (formularz ZUS ZUA) lub tylko do ubezpieczenia zdrowotnego (ZUS ZZA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fi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ole tekstowe 13"/>
          <p:cNvSpPr/>
          <p:nvPr/>
        </p:nvSpPr>
        <p:spPr>
          <a:xfrm>
            <a:off x="32400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już masz pomysł na biznes i wiesz, w jakiej formie organizacyjno-prawnej chcesz otworzyć własną działalność, następnym krokiem jest jej zarejestr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4"/>
          <p:cNvSpPr/>
          <p:nvPr/>
        </p:nvSpPr>
        <p:spPr>
          <a:xfrm>
            <a:off x="324000" y="21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ę firmy należy rozpocząć od zgłoszeń do jednego z dwóch rejestrów działalności gospodarcz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owolny kształt 18"/>
          <p:cNvGrpSpPr/>
          <p:nvPr/>
        </p:nvGrpSpPr>
        <p:grpSpPr>
          <a:xfrm>
            <a:off x="480960" y="3029040"/>
            <a:ext cx="7602480" cy="1330200"/>
            <a:chOff x="480960" y="3029040"/>
            <a:chExt cx="7602480" cy="1330200"/>
          </a:xfrm>
        </p:grpSpPr>
        <p:pic>
          <p:nvPicPr>
            <p:cNvPr id="60" name="Dowolny kształt 18" descr=""/>
            <p:cNvPicPr/>
            <p:nvPr/>
          </p:nvPicPr>
          <p:blipFill>
            <a:blip r:embed="rId2"/>
            <a:stretch/>
          </p:blipFill>
          <p:spPr>
            <a:xfrm>
              <a:off x="480960" y="3029040"/>
              <a:ext cx="76024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640" y="3068640"/>
              <a:ext cx="748836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ej Ewidencji i Informacji o Działalności Gospodarczej </a:t>
              </a: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(CEIDG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Dowolny kształt 19"/>
          <p:cNvGrpSpPr/>
          <p:nvPr/>
        </p:nvGrpSpPr>
        <p:grpSpPr>
          <a:xfrm>
            <a:off x="480960" y="4664160"/>
            <a:ext cx="7602480" cy="1322280"/>
            <a:chOff x="480960" y="4664160"/>
            <a:chExt cx="7602480" cy="1322280"/>
          </a:xfrm>
        </p:grpSpPr>
        <p:pic>
          <p:nvPicPr>
            <p:cNvPr id="63" name="Dowolny kształt 19" descr=""/>
            <p:cNvPicPr/>
            <p:nvPr/>
          </p:nvPicPr>
          <p:blipFill>
            <a:blip r:embed="rId3"/>
            <a:stretch/>
          </p:blipFill>
          <p:spPr>
            <a:xfrm>
              <a:off x="480960" y="4664160"/>
              <a:ext cx="76024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9640" y="4697280"/>
              <a:ext cx="74883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u Przedsiębiorców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nowiącego część Krajowego Rejestru Sądowego (KRS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ole tekstowe 6"/>
          <p:cNvSpPr/>
          <p:nvPr/>
        </p:nvSpPr>
        <p:spPr>
          <a:xfrm>
            <a:off x="3419640" y="1413000"/>
            <a:ext cx="49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wadzi go minister właściwy do spraw gospod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przedsiębiorcy działający jednoosobowo oraz wspólnicy spółek cywil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o wpis do ewidencji można złożyć osobiście w urzędzie gminy, przesłać listem poleconym lub przesłać w formie elektronicz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8"/>
          <p:cNvSpPr/>
          <p:nvPr/>
        </p:nvSpPr>
        <p:spPr>
          <a:xfrm>
            <a:off x="539640" y="4869000"/>
            <a:ext cx="662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3e1a"/>
                </a:solidFill>
                <a:latin typeface="Times New Roman CE"/>
                <a:ea typeface="Times New Roman CE"/>
              </a:rPr>
              <a:t>Ważn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1.07.2011 r. rejestr nazywał się: Ewidencja Działalności Gospodarczej – prowadził ją urząd miasta lub g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08900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Obraz 10" descr="ludzie76.jpg"/>
          <p:cNvPicPr/>
          <p:nvPr/>
        </p:nvPicPr>
        <p:blipFill>
          <a:blip r:embed="rId3"/>
          <a:stretch/>
        </p:blipFill>
        <p:spPr>
          <a:xfrm>
            <a:off x="55440" y="1560600"/>
            <a:ext cx="3498840" cy="248760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Przedsiębiorców w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ole tekstowe 6"/>
          <p:cNvSpPr/>
          <p:nvPr/>
        </p:nvSpPr>
        <p:spPr>
          <a:xfrm>
            <a:off x="496440" y="13413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spółki prawa handlow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olny kształt 10"/>
          <p:cNvSpPr/>
          <p:nvPr/>
        </p:nvSpPr>
        <p:spPr>
          <a:xfrm>
            <a:off x="611280" y="5551560"/>
            <a:ext cx="7416720" cy="468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olny kształt 11"/>
          <p:cNvSpPr/>
          <p:nvPr/>
        </p:nvSpPr>
        <p:spPr>
          <a:xfrm>
            <a:off x="611280" y="4840200"/>
            <a:ext cx="7416720" cy="71928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ograniczoną odpowiedzialności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olny kształt 12"/>
          <p:cNvSpPr/>
          <p:nvPr/>
        </p:nvSpPr>
        <p:spPr>
          <a:xfrm>
            <a:off x="611280" y="4127400"/>
            <a:ext cx="7416720" cy="71928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o–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olny kształt 13"/>
          <p:cNvSpPr/>
          <p:nvPr/>
        </p:nvSpPr>
        <p:spPr>
          <a:xfrm>
            <a:off x="611280" y="3414600"/>
            <a:ext cx="7416720" cy="71928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olny kształt 14"/>
          <p:cNvSpPr/>
          <p:nvPr/>
        </p:nvSpPr>
        <p:spPr>
          <a:xfrm>
            <a:off x="611280" y="2703600"/>
            <a:ext cx="7416720" cy="7189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artne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olny kształt 16"/>
          <p:cNvSpPr/>
          <p:nvPr/>
        </p:nvSpPr>
        <p:spPr>
          <a:xfrm>
            <a:off x="611280" y="1990800"/>
            <a:ext cx="7416720" cy="71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a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10" descr="ludzie104.jpg"/>
          <p:cNvPicPr/>
          <p:nvPr/>
        </p:nvPicPr>
        <p:blipFill>
          <a:blip r:embed="rId1"/>
          <a:stretch/>
        </p:blipFill>
        <p:spPr>
          <a:xfrm>
            <a:off x="5435640" y="2781360"/>
            <a:ext cx="352116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9"/>
          <p:cNvGrpSpPr/>
          <p:nvPr/>
        </p:nvGrpSpPr>
        <p:grpSpPr>
          <a:xfrm>
            <a:off x="395280" y="1052640"/>
            <a:ext cx="5111640" cy="5375880"/>
            <a:chOff x="395280" y="1052640"/>
            <a:chExt cx="5111640" cy="5375880"/>
          </a:xfrm>
        </p:grpSpPr>
        <p:sp>
          <p:nvSpPr>
            <p:cNvPr id="96" name="Prostokąt zaokrąglony 8"/>
            <p:cNvSpPr/>
            <p:nvPr/>
          </p:nvSpPr>
          <p:spPr>
            <a:xfrm>
              <a:off x="395280" y="1052640"/>
              <a:ext cx="5111640" cy="504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7"/>
            <p:cNvSpPr/>
            <p:nvPr/>
          </p:nvSpPr>
          <p:spPr>
            <a:xfrm>
              <a:off x="610560" y="1124640"/>
              <a:ext cx="48243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ejestr przedsiębiorców prowadzą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stemie informatycznym sądy rejonowe (sądy gospodarcze) właściwe ze względu na siedzibę tworzonej spółk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dy te zwane są dla potrzeb działalności gospodarczej sądami rejestrowymi. Rejestr przedsiębiorców jest jawny i dostępny dla każdego podmiotu. To znaczy, że każdy może zapoznać się z jego treścią. Ujawnia się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nim wszystkie istotne dane dotyczące spółek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ó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6"/>
          <p:cNvSpPr/>
          <p:nvPr/>
        </p:nvSpPr>
        <p:spPr>
          <a:xfrm>
            <a:off x="179280" y="141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osoba lub spółka (oprócz spółki cywilnej) zamierzająca otworzyć własną działalność gospodarczą może zarejestrować działalność w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ym okienk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250920" y="3573360"/>
            <a:ext cx="79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znacza to, że można dopełnić prawie wszystkich formalności rejestracyjnych w jednym miejscu – bez konieczności udania się do innych urzędów. W praktyce jednakże przyszły przedsiębiorca, pomimo istnienia zasady jednego okienka, musi pewne dodatkowe formalności załatwić sam, udając się do stosownych urz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82680" cy="19684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95280" y="1484280"/>
          <a:ext cx="7777080" cy="64944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133720"/>
          <a:ext cx="7777080" cy="180000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80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Centralna Ewiden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i Informa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o Działalności Gospodarcze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Prowadzi minister właściwy do spraw gospodarki (do 1.07.2011 rejestr nazywał się: Ewidencja Działalności Gospodarczej – prowadził ją urząd miasta lub gminy). Rejestrują się w nim przedsiębiorcy działający jednoosobowo oraz wspólnicy spółek cywilnyc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5280" y="3933720"/>
          <a:ext cx="7777080" cy="115092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15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Rejestr Przedsiębiorcó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Stanowi część Krajowego Rejestru Sądowego(KRS). Rejestrują się w nim spółki prawa handloweg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2619360" cy="283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ole tekstowe 6"/>
          <p:cNvSpPr/>
          <p:nvPr/>
        </p:nvSpPr>
        <p:spPr>
          <a:xfrm>
            <a:off x="324000" y="191628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a zamierzająca podjąć indywidualną działalność gospodarczą składa w urzędzie gminy (właściwego wg miejsca zamieszkania) wniosek o wpis do ewiden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składany jest na specjalnym formularzu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Dowolny kształt 9"/>
          <p:cNvSpPr/>
          <p:nvPr/>
        </p:nvSpPr>
        <p:spPr>
          <a:xfrm>
            <a:off x="395280" y="1197000"/>
            <a:ext cx="7777080" cy="1425600"/>
          </a:xfrm>
          <a:prstGeom prst="pie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ormularz </a:t>
            </a:r>
            <a:r>
              <a:rPr b="1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EIDG-1 </a:t>
            </a: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est jednocześni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0"/>
          <p:cNvSpPr/>
          <p:nvPr/>
        </p:nvSpPr>
        <p:spPr>
          <a:xfrm>
            <a:off x="395280" y="2622600"/>
            <a:ext cx="1944720" cy="299412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umeru REGON przez Główny Urząd Statystyczny (G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1"/>
          <p:cNvSpPr/>
          <p:nvPr/>
        </p:nvSpPr>
        <p:spPr>
          <a:xfrm>
            <a:off x="2340000" y="2622600"/>
            <a:ext cx="1944720" cy="2994120"/>
          </a:xfrm>
          <a:prstGeom prst="pie">
            <a:avLst/>
          </a:prstGeom>
          <a:solidFill>
            <a:srgbClr val="5cb37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do naczelnika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IP-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12"/>
          <p:cNvSpPr/>
          <p:nvPr/>
        </p:nvSpPr>
        <p:spPr>
          <a:xfrm>
            <a:off x="4284720" y="2622600"/>
            <a:ext cx="1942920" cy="2994120"/>
          </a:xfrm>
          <a:prstGeom prst="pie">
            <a:avLst/>
          </a:prstGeom>
          <a:solidFill>
            <a:srgbClr val="608c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głoszeniem go jako płatnika składek do systemu ubezpieczeń społecznych (Z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13"/>
          <p:cNvSpPr/>
          <p:nvPr/>
        </p:nvSpPr>
        <p:spPr>
          <a:xfrm>
            <a:off x="6227640" y="2622600"/>
            <a:ext cx="1944720" cy="29941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świadczeniem kierowanym do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wyborze formy opodatkow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14"/>
          <p:cNvSpPr/>
          <p:nvPr/>
        </p:nvSpPr>
        <p:spPr>
          <a:xfrm>
            <a:off x="395280" y="5616720"/>
            <a:ext cx="7777080" cy="333360"/>
          </a:xfrm>
          <a:prstGeom prst="rect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35:48Z</dcterms:created>
  <dc:creator>x</dc:creator>
  <dc:description/>
  <dc:language>en-US</dc:language>
  <cp:lastModifiedBy>Gosia</cp:lastModifiedBy>
  <dcterms:modified xsi:type="dcterms:W3CDTF">2013-01-31T16:55:16Z</dcterms:modified>
  <cp:revision>42</cp:revision>
  <dc:subject/>
  <dc:title>Slajd 1</dc:title>
</cp:coreProperties>
</file>